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5FBE-A233-4257-968F-0B0602DF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A19B-1988-4024-9A9B-D5F04E20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2403-A1A4-4E8B-9494-2BE16DD6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D8A5-4D16-40AA-B3B4-DEF3D682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C25-6034-44C3-871B-08802C75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3028-E7DA-4FA8-83A5-16BF7C0B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A5B6-B95A-4DA7-9234-D3DC7D9E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38E7-501A-4A61-9B90-B494969A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135D-AAB7-4463-91B5-B72F254A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9CC-6FC5-4C8A-B4B9-2EAA6835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259-42E3-4312-84FA-73FA4A5A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14C2-FD1B-48D9-B93E-DEB890D5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52C3-48AB-4585-9681-F3B104ACD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755200" cy="566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4"/>
          <a:stretch/>
        </p:blipFill>
        <p:spPr>
          <a:xfrm>
            <a:off x="539640" y="2421000"/>
            <a:ext cx="3975120" cy="635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5"/>
          <a:stretch/>
        </p:blipFill>
        <p:spPr>
          <a:xfrm>
            <a:off x="896760" y="3860640"/>
            <a:ext cx="3530880" cy="622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6"/>
          <a:stretch/>
        </p:blipFill>
        <p:spPr>
          <a:xfrm>
            <a:off x="34920" y="5300640"/>
            <a:ext cx="456408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642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شر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3"/>
          <a:stretch/>
        </p:blipFill>
        <p:spPr>
          <a:xfrm>
            <a:off x="231840" y="981000"/>
            <a:ext cx="8634240" cy="54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4"/>
          <a:stretch/>
        </p:blipFill>
        <p:spPr>
          <a:xfrm>
            <a:off x="250920" y="3789360"/>
            <a:ext cx="8605800" cy="134136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324000" y="1628640"/>
            <a:ext cx="856908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ؤية الله عز وجل والدليل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5"/>
          <a:stretch/>
        </p:blipFill>
        <p:spPr>
          <a:xfrm>
            <a:off x="2771640" y="2276640"/>
            <a:ext cx="61214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13"/>
          <a:stretch/>
        </p:blipFill>
        <p:spPr>
          <a:xfrm>
            <a:off x="539640" y="2276640"/>
            <a:ext cx="813600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3240"/>
            <a:ext cx="9132840" cy="127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97200" y="4653000"/>
            <a:ext cx="3568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95400" y="828720"/>
            <a:ext cx="898344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675640" cy="460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4680" y="888840"/>
            <a:ext cx="9144000" cy="7700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00536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يسر إلى طريق الجنة من يشاء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4935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ن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954000"/>
            <a:ext cx="3601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 غير المؤمنين وطريق المؤمن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43700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516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وم القيامة نجمع جميع الخل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نام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700360" y="981000"/>
            <a:ext cx="4680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العب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هم إلى دار السلام ويسر سلوك طريقها وهدى من جد في طل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ؤية المؤمنين لربهم جل وعلا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رؤية المؤمنين لربهم جل وعلا في الآخرة 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61620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جازي على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ثلها من غير تضعي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0784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تورثه من حسرة وندامة وما توجبه من خسر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456876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البعث والجز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2"/>
          <a:stretch/>
        </p:blipFill>
        <p:spPr>
          <a:xfrm>
            <a:off x="2484360" y="3030480"/>
            <a:ext cx="6335640" cy="40320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179280" y="506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بلاغة القرآن الكري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رض مشاهد القيامة وتصوير أحوال الآخرة كأنها رأي الع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53896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عبده المشرك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بعبادتهم وسيكون عدواً لهم ويتبراً منهم يوم القي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6027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بادة غير الله سواء كان المعبود نبياً أو ولياً أو حجر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670960" cy="223200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4000" y="342900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ا من سوء السيئة وما تورثه من حسرة وندامة وما توجبه من خسر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7T06:03:02Z</dcterms:modified>
  <cp:revision>1938</cp:revision>
  <dc:subject/>
  <dc:title>عرض تقديمي في PowerPoint</dc:title>
</cp:coreProperties>
</file>